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7F9-6F58-4A72-BFB3-15380D42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3C1-6E37-4017-902B-F9311BE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AEF-99B2-4F38-849C-24D5C889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3EA-A4D0-46B7-9FF0-8EAAA912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5C4-BE0C-41AE-B495-93908096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CFD-3E30-43C7-8D53-5B1361E2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620-406E-450B-BB55-119402B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0AC-2A33-4743-8FFF-E0DCCA5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47B-65BC-463B-ADDF-23C5FC3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9FF-D85B-4E64-AEF2-5B8467B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261-24D5-4427-ABFC-41D1133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CF6-0938-45CB-BDD5-15B9299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asmineUP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Jasmine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Jasmine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Jasmine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asmineUP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Jasmine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asmineUPC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JasmineUP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asmineUPC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Jasmine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FA9-4EF7-41C4-97D8-C99ACCF0E209}" type="slidenum">
              <a:rPr b="0" lang="en-US" sz="2600" spc="-1" strike="noStrike">
                <a:solidFill>
                  <a:srgbClr val="000000"/>
                </a:solidFill>
                <a:latin typeface="JasmineUPC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99072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0" spc="-1" strike="noStrike">
                <a:solidFill>
                  <a:srgbClr val="ff00ff"/>
                </a:solidFill>
                <a:latin typeface="JasmineUPC"/>
              </a:rPr>
              <a:t>วิทยาลัยสิ่งแวดล้อม</a:t>
            </a:r>
            <a:r>
              <a:rPr b="1" lang="th-TH" sz="8000" spc="-1" strike="noStrike">
                <a:solidFill>
                  <a:srgbClr val="ff00ff"/>
                </a:solidFill>
                <a:latin typeface="JasmineUPC"/>
              </a:rPr>
              <a:t>      </a:t>
            </a:r>
            <a:r>
              <a:rPr b="1" lang="th-TH" sz="6000" spc="-1" strike="noStrike">
                <a:solidFill>
                  <a:srgbClr val="ff00ff"/>
                </a:solidFill>
                <a:latin typeface="JasmineUPC"/>
              </a:rPr>
              <a:t>มหาวิทยาลัยเกษตรศาสตร์ </a:t>
            </a:r>
            <a:endParaRPr b="0" lang="en-US" sz="6000" spc="-1" strike="noStrike">
              <a:solidFill>
                <a:srgbClr val="000000"/>
              </a:solidFill>
              <a:latin typeface="JasmineUPC"/>
            </a:endParaRPr>
          </a:p>
        </p:txBody>
      </p:sp>
      <p:pic>
        <p:nvPicPr>
          <p:cNvPr id="43" name="ku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ollege%20thai" descr=""/>
          <p:cNvPicPr/>
          <p:nvPr/>
        </p:nvPicPr>
        <p:blipFill>
          <a:blip r:embed="rId3"/>
          <a:stretch/>
        </p:blipFill>
        <p:spPr>
          <a:xfrm>
            <a:off x="1752480" y="3962520"/>
            <a:ext cx="3048120" cy="279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-168120"/>
            <a:ext cx="5029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JasmineUPC"/>
              </a:rPr>
              <a:t>งบประมาณ</a:t>
            </a:r>
            <a:endParaRPr b="0" lang="en-US" sz="10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352680"/>
            <a:ext cx="5791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asmineUPC"/>
                <a:ea typeface="Angsana New"/>
              </a:rPr>
              <a:t>2. </a:t>
            </a:r>
            <a:r>
              <a:rPr b="1" lang="en-US" sz="3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พัฒนาระบบสารสนเทศงานวิจัย ของโครงการศึกษาวิจัยและพัฒนาสิ่งแวดล้อมแหลมผักเบี้ยอันเนื่องมาจากพระราชดำริ และวิทยาลัยสิ่งแวดล้อม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181480"/>
            <a:ext cx="5867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JasmineUPC"/>
                <a:ea typeface="Angsana New"/>
              </a:rPr>
              <a:t>3. </a:t>
            </a:r>
            <a:r>
              <a:rPr b="1" lang="en-US" sz="3000" spc="-1" strike="noStrike">
                <a:solidFill>
                  <a:srgbClr val="00ffff"/>
                </a:solidFill>
                <a:latin typeface="JasmineUPC"/>
                <a:cs typeface="Angsana New"/>
              </a:rPr>
              <a:t>โครงการจัดทำฐานข้อมูลสารสนเทศห้องสมุด ประกันคุณภาพการศึกษา และประชาสัมพันธ์หน่วยงาน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510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JasmineUPC"/>
                <a:ea typeface="Angsana New"/>
              </a:rPr>
              <a:t>1. </a:t>
            </a:r>
            <a:r>
              <a:rPr b="1" lang="en-US" sz="3000" spc="-1" strike="noStrike">
                <a:solidFill>
                  <a:srgbClr val="ffff00"/>
                </a:solidFill>
                <a:latin typeface="JasmineUPC"/>
                <a:cs typeface="Angsana New"/>
              </a:rPr>
              <a:t>โครงการจัดทำระบบสารสนเทศและปรับปรุง           เครือข่ายงานบริหารกลางวิทยาลัยสิ่งแวดล้อม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88620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SimSun"/>
              </a:rPr>
              <a:t>649,600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cs typeface="SimSun"/>
              </a:rPr>
              <a:t>บาท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5486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dia New"/>
                <a:ea typeface="SimSun"/>
              </a:rPr>
              <a:t>630,720 </a:t>
            </a:r>
            <a:r>
              <a:rPr b="1" lang="en-US" sz="2800" spc="-1" strike="noStrike">
                <a:solidFill>
                  <a:srgbClr val="00ffff"/>
                </a:solidFill>
                <a:latin typeface="Cordia New"/>
                <a:cs typeface="SimSun"/>
              </a:rPr>
              <a:t>บาท</a:t>
            </a:r>
            <a:r>
              <a:rPr b="1" lang="en-US" sz="2800" spc="-1" strike="noStrike">
                <a:solidFill>
                  <a:srgbClr val="00ffff"/>
                </a:solidFill>
                <a:latin typeface="Angsana New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22096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dia New"/>
                <a:ea typeface="SimSun"/>
              </a:rPr>
              <a:t>443,720  </a:t>
            </a:r>
            <a:r>
              <a:rPr b="1" lang="en-US" sz="2800" spc="-1" strike="noStrike">
                <a:solidFill>
                  <a:srgbClr val="ffff00"/>
                </a:solidFill>
                <a:latin typeface="Cordia New"/>
                <a:cs typeface="SimSun"/>
              </a:rPr>
              <a:t>บาท</a:t>
            </a:r>
            <a:r>
              <a:rPr b="1" lang="en-US" sz="2800" spc="-1" strike="noStrike">
                <a:solidFill>
                  <a:srgbClr val="ffff00"/>
                </a:solidFill>
                <a:latin typeface="Angsana New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ภาพนิ่ง9" descr=""/>
          <p:cNvPicPr/>
          <p:nvPr/>
        </p:nvPicPr>
        <p:blipFill>
          <a:blip r:embed="rId1"/>
          <a:stretch/>
        </p:blipFill>
        <p:spPr>
          <a:xfrm>
            <a:off x="-85680" y="-952560"/>
            <a:ext cx="9315360" cy="876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2480"/>
            <a:ext cx="838224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JasmineUPC"/>
              </a:rPr>
              <a:t>แผนงานโครงการ</a:t>
            </a:r>
            <a:r>
              <a:rPr b="1" lang="en-US" sz="8000" spc="-1" strike="noStrike">
                <a:solidFill>
                  <a:srgbClr val="000000"/>
                </a:solidFill>
                <a:latin typeface="JasmineUPC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JasmineUPC"/>
            </a:endParaRPr>
          </a:p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600" spc="-1" strike="noStrike">
                <a:solidFill>
                  <a:srgbClr val="000000"/>
                </a:solidFill>
                <a:latin typeface="JasmineUPC"/>
              </a:rPr>
              <a:t>เทคโนโลยีสารสนเทศและการสื่อสาร</a:t>
            </a:r>
            <a:endParaRPr b="0" lang="en-US" sz="56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48" name=""/>
          <p:cNvSpPr/>
          <p:nvPr/>
        </p:nvSpPr>
        <p:spPr>
          <a:xfrm>
            <a:off x="-152280" y="5105520"/>
            <a:ext cx="929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812960"/>
            <a:ext cx="71625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JasmineUPC"/>
              </a:rPr>
              <a:t>ประกอบไปด้วย  </a:t>
            </a:r>
            <a:r>
              <a:rPr b="1" lang="en-US" sz="6000" spc="-1" strike="noStrike">
                <a:solidFill>
                  <a:srgbClr val="000000"/>
                </a:solidFill>
                <a:latin typeface="JasmineUPC"/>
              </a:rPr>
              <a:t>3 </a:t>
            </a:r>
            <a:r>
              <a:rPr b="1" lang="hi-IN" sz="6000" spc="-1" strike="noStrike">
                <a:solidFill>
                  <a:srgbClr val="000000"/>
                </a:solidFill>
                <a:latin typeface="JasmineUPC"/>
              </a:rPr>
              <a:t>โครงการย่อย</a:t>
            </a:r>
            <a:endParaRPr b="0" lang="en-US" sz="60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120"/>
            <a:ext cx="9144000" cy="1041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9548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24560"/>
            <a:ext cx="9144000" cy="133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962520"/>
            <a:ext cx="312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057400"/>
            <a:ext cx="79250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พัฒนาระบบสารสนเทศงานวิจัย ของโครงการศึกษาวิจัยและพัฒนาสิ่งแวดล้อมแหลมผักเบี้ยอันเนื่องมาจากพระราชดำริ และวิทยาลัยสิ่งแวดล้อม</a:t>
            </a:r>
            <a:endParaRPr b="0" lang="en-US" sz="3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876920"/>
            <a:ext cx="76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จัดทำฐานข้อมูลสารสนเทศห้องสมุด ประกันคุณภาพการศึกษา และประชาสัมพันธ์หน่วยงาน</a:t>
            </a:r>
            <a:endParaRPr b="0" lang="en-US" sz="4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81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จัดทำระบบสารสนเทศและปรับปรุงเครือข่ายงานบริหารกลาง วิทยาลัยสิ่งแวดล้อม</a:t>
            </a:r>
            <a:endParaRPr b="0" lang="en-US" sz="4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-152280"/>
            <a:ext cx="83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ngsana New"/>
              </a:rPr>
              <a:t>1.</a:t>
            </a:r>
            <a:endParaRPr b="0" lang="en-US" sz="96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981080"/>
            <a:ext cx="83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ngsana New"/>
              </a:rPr>
              <a:t>2.</a:t>
            </a:r>
            <a:endParaRPr b="0" lang="en-US" sz="96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724280"/>
            <a:ext cx="83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ngsana New"/>
              </a:rPr>
              <a:t>3.</a:t>
            </a:r>
            <a:endParaRPr b="0" lang="en-US" sz="96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838080"/>
            <a:ext cx="609624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0" spc="-1" strike="noStrike">
                <a:solidFill>
                  <a:srgbClr val="000000"/>
                </a:solidFill>
                <a:latin typeface="JasmineUPC"/>
              </a:rPr>
              <a:t>ภายใต้                                     ยุทธศาสตร์</a:t>
            </a:r>
            <a:endParaRPr b="0" lang="en-US" sz="12000" spc="-1" strike="noStrike">
              <a:solidFill>
                <a:srgbClr val="000000"/>
              </a:solidFill>
              <a:latin typeface="JasmineUPC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5334120" cy="685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67280"/>
            <a:ext cx="5334120" cy="9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334120"/>
            <a:ext cx="533412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267080"/>
            <a:ext cx="5334120" cy="1067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05320"/>
            <a:ext cx="533412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0920"/>
            <a:ext cx="533412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28800"/>
            <a:ext cx="533412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19320"/>
            <a:ext cx="533412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5334120" cy="1219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0"/>
            <a:ext cx="38098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52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1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ส่งเสริมและพัฒนาโครงสร้างพื้นฐานทางไอซีทีให้ได้ทั่วถึงและต่อเนื่อง รวมถึงจัดสภาพแวดล้อมให้เหมาะสม และบริหารทรัพยากรให้เกิดประโยชน์สูงสุด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ffffff"/>
                </a:solidFill>
                <a:uFillTx/>
                <a:latin typeface="JasmineUPC"/>
                <a:cs typeface="JasmineUPC"/>
              </a:rPr>
              <a:t>ยุทธศาสตร์ที่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JasmineUPC"/>
                <a:ea typeface="JasmineUPC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JasmineUPC"/>
                <a:ea typeface="JasmineUPC"/>
              </a:rPr>
              <a:t>  </a:t>
            </a:r>
            <a:r>
              <a:rPr b="1" lang="hi-IN" sz="1800" spc="-1" strike="noStrike">
                <a:solidFill>
                  <a:srgbClr val="ffffff"/>
                </a:solidFill>
                <a:latin typeface="JasmineUPC"/>
                <a:cs typeface="JasmineUPC"/>
              </a:rPr>
              <a:t>มุ่งเน้นการใช้เทคโนโลยีสารสนเทศ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18288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3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สร้างบัณฑิตและสร้างคนที่มีคุณภาพ                      ทางวิชาการ มีคุณธรรม จริยธรรม มีจิตสำนึกในการรับใช้สังคม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787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4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ปรับปรุงและพั ฒนาระบบการศึกษาเพื่อเพิ่มประสิทธิภาพในการบริหารจัดการการเรียนการสอน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5496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5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พัฒนาระบบ </a:t>
            </a:r>
            <a:r>
              <a:rPr b="1" lang="en-US" sz="1800" spc="-1" strike="noStrike">
                <a:solidFill>
                  <a:srgbClr val="ffffff"/>
                </a:solidFill>
                <a:latin typeface="JasmineUPC"/>
              </a:rPr>
              <a:t>back office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และ </a:t>
            </a:r>
            <a:r>
              <a:rPr b="1" lang="en-US" sz="1800" spc="-1" strike="noStrike">
                <a:solidFill>
                  <a:srgbClr val="ffffff"/>
                </a:solidFill>
                <a:latin typeface="JasmineUPC"/>
              </a:rPr>
              <a:t>e-Service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ที่บูรณาการให้กว้าวขวาง ครอบคลุม และปลอดภัย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43419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6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สร้างความร่วมมือระหว่างหน่วยงานของรัฐและชุมชน โดยให้บริการส่งเสริมและเผยแพร่การใช้ไอซีทีแก่สังคม ชี้นำและให้ความรู้เทคโนโลยีใหม่ อันจะเป็นประโยชน์ต่อการพัฒนาประเทศ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410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7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พัฒนาไปสู่ </a:t>
            </a:r>
            <a:r>
              <a:rPr b="1" lang="en-US" sz="1800" spc="-1" strike="noStrike">
                <a:solidFill>
                  <a:srgbClr val="ffffff"/>
                </a:solidFill>
                <a:latin typeface="JasmineUPC"/>
              </a:rPr>
              <a:t>e-Office 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8672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ยุทธศาส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JasmineUPC"/>
              </a:rPr>
              <a:t>8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JasmineUPC"/>
              </a:rPr>
              <a:t>พัฒนาระบบเครือข่าย และระบบสารสนเทศของมหาวิทยาลัยให้มีความมั่นคงปลอดภัยสูง</a:t>
            </a:r>
            <a:endParaRPr b="0" lang="en-US" sz="1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76320"/>
            <a:ext cx="2666880" cy="167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1828800"/>
            <a:ext cx="2666880" cy="274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4724280"/>
            <a:ext cx="2666880" cy="20574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133720"/>
            <a:ext cx="22096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พัฒนาระบบสารสนเทศงานวิจัย ของโครงการศึกษาวิจัยและพัฒนาสิ่งแวดล้อมแหลมผักเบี้ยอันเนื่องมาจากพระราชดำริ และวิทยาลัยสิ่งแวดล้อม</a:t>
            </a:r>
            <a:endParaRPr b="0" lang="en-US" sz="2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876920"/>
            <a:ext cx="190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จัดทำฐานข้อมูลสารสนเทศห้องสมุด ประกันคุณภาพการศึกษา และประชาสัมพันธ์หน่วยงาน</a:t>
            </a:r>
            <a:endParaRPr b="0" lang="en-US" sz="22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68120"/>
            <a:ext cx="22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จัดทำระบบสารสนเทศและปรับปรุงเครือข่ายงานบริหารกลาง วิทยาลัยสิ่งแวดล้อม</a:t>
            </a:r>
            <a:endParaRPr b="0" lang="en-US" sz="2200" spc="-1" strike="noStrike">
              <a:solidFill>
                <a:srgbClr val="000000"/>
              </a:solidFill>
              <a:latin typeface="JasmineUPC"/>
            </a:endParaRPr>
          </a:p>
        </p:txBody>
      </p:sp>
      <p:cxnSp>
        <p:nvCxnSpPr>
          <p:cNvPr id="87" name=""/>
          <p:cNvCxnSpPr>
            <a:stCxn id="81" idx="2"/>
            <a:endCxn id="73" idx="3"/>
          </p:cNvCxnSpPr>
          <p:nvPr/>
        </p:nvCxnSpPr>
        <p:spPr>
          <a:xfrm flipH="1" flipV="1">
            <a:off x="5028480" y="610920"/>
            <a:ext cx="1220040" cy="3038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1" idx="2"/>
            <a:endCxn id="74" idx="3"/>
          </p:cNvCxnSpPr>
          <p:nvPr/>
        </p:nvCxnSpPr>
        <p:spPr>
          <a:xfrm flipH="1">
            <a:off x="4190760" y="914400"/>
            <a:ext cx="2057760" cy="565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1" idx="2"/>
            <a:endCxn id="75" idx="3"/>
          </p:cNvCxnSpPr>
          <p:nvPr/>
        </p:nvCxnSpPr>
        <p:spPr>
          <a:xfrm flipH="1">
            <a:off x="4876560" y="914040"/>
            <a:ext cx="1372320" cy="1235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1" idx="2"/>
            <a:endCxn id="76" idx="3"/>
          </p:cNvCxnSpPr>
          <p:nvPr/>
        </p:nvCxnSpPr>
        <p:spPr>
          <a:xfrm flipH="1">
            <a:off x="4647600" y="914400"/>
            <a:ext cx="1600920" cy="21945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2" idx="2"/>
            <a:endCxn id="73" idx="3"/>
          </p:cNvCxnSpPr>
          <p:nvPr/>
        </p:nvCxnSpPr>
        <p:spPr>
          <a:xfrm flipH="1" flipV="1">
            <a:off x="5028480" y="610920"/>
            <a:ext cx="1220040" cy="2589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2" idx="2"/>
            <a:endCxn id="74" idx="3"/>
          </p:cNvCxnSpPr>
          <p:nvPr/>
        </p:nvCxnSpPr>
        <p:spPr>
          <a:xfrm flipH="1" flipV="1">
            <a:off x="4190760" y="1479240"/>
            <a:ext cx="2057760" cy="1721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2" idx="2"/>
            <a:endCxn id="69" idx="2"/>
          </p:cNvCxnSpPr>
          <p:nvPr/>
        </p:nvCxnSpPr>
        <p:spPr>
          <a:xfrm flipH="1" flipV="1">
            <a:off x="2666160" y="2590200"/>
            <a:ext cx="358236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2" idx="2"/>
            <a:endCxn id="78" idx="3"/>
          </p:cNvCxnSpPr>
          <p:nvPr/>
        </p:nvCxnSpPr>
        <p:spPr>
          <a:xfrm flipH="1">
            <a:off x="5104800" y="3200040"/>
            <a:ext cx="1143720" cy="1600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2" idx="2"/>
            <a:endCxn id="79" idx="3"/>
          </p:cNvCxnSpPr>
          <p:nvPr/>
        </p:nvCxnSpPr>
        <p:spPr>
          <a:xfrm flipH="1">
            <a:off x="3199680" y="3200400"/>
            <a:ext cx="3048840" cy="2394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3" idx="2"/>
            <a:endCxn id="73" idx="3"/>
          </p:cNvCxnSpPr>
          <p:nvPr/>
        </p:nvCxnSpPr>
        <p:spPr>
          <a:xfrm flipH="1" flipV="1">
            <a:off x="5028480" y="610560"/>
            <a:ext cx="1220040" cy="5142600"/>
          </a:xfrm>
          <a:prstGeom prst="straightConnector1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3" idx="2"/>
            <a:endCxn id="74" idx="3"/>
          </p:cNvCxnSpPr>
          <p:nvPr/>
        </p:nvCxnSpPr>
        <p:spPr>
          <a:xfrm flipH="1" flipV="1">
            <a:off x="4190760" y="1479240"/>
            <a:ext cx="2057760" cy="4273920"/>
          </a:xfrm>
          <a:prstGeom prst="straightConnector1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3" idx="2"/>
            <a:endCxn id="77" idx="3"/>
          </p:cNvCxnSpPr>
          <p:nvPr/>
        </p:nvCxnSpPr>
        <p:spPr>
          <a:xfrm flipH="1" flipV="1">
            <a:off x="4494960" y="3870000"/>
            <a:ext cx="1753560" cy="1883520"/>
          </a:xfrm>
          <a:prstGeom prst="straightConnector1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3" idx="2"/>
            <a:endCxn id="79" idx="3"/>
          </p:cNvCxnSpPr>
          <p:nvPr/>
        </p:nvCxnSpPr>
        <p:spPr>
          <a:xfrm flipH="1" flipV="1">
            <a:off x="3199680" y="5593680"/>
            <a:ext cx="3048840" cy="159480"/>
          </a:xfrm>
          <a:prstGeom prst="straightConnector1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3" idx="2"/>
            <a:endCxn id="80" idx="2"/>
          </p:cNvCxnSpPr>
          <p:nvPr/>
        </p:nvCxnSpPr>
        <p:spPr>
          <a:xfrm flipH="1">
            <a:off x="2666160" y="5752800"/>
            <a:ext cx="3582360" cy="756360"/>
          </a:xfrm>
          <a:prstGeom prst="straightConnector1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2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</a:rPr>
              <a:t>1.</a:t>
            </a:r>
            <a:r>
              <a:rPr b="1" lang="en-US" sz="3000" spc="-1" strike="noStrike">
                <a:solidFill>
                  <a:srgbClr val="ffffff"/>
                </a:solidFill>
                <a:latin typeface="JasmineUPC"/>
                <a:ea typeface="Angsana Ne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จัดทำระบบสารสนเทศและปรับปรุงเครือข่าย                                    งานบริหารกลาง วิทยาลัยสิ่งแวดล้อม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0"/>
            <a:ext cx="83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906" t="18753" r="5467" b="18753"/>
          <a:stretch/>
        </p:blipFill>
        <p:spPr>
          <a:xfrm>
            <a:off x="152280" y="1676520"/>
            <a:ext cx="88394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2860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asmineUPC"/>
                <a:ea typeface="Angsana New"/>
              </a:rPr>
              <a:t>2. </a:t>
            </a:r>
            <a:r>
              <a:rPr b="1" lang="en-US" sz="3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พัฒนาระบบสารสนเทศงานวิจัย ของโครงการศึกษาวิจัยและพัฒนาสิ่งแวดล้อมแหลมผักเบี้ยอันเนื่องมาจากพระราชดำริ และวิทยาลัยสิ่งแวดล้อม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688" t="35419" r="4688" b="27086"/>
          <a:stretch/>
        </p:blipFill>
        <p:spPr>
          <a:xfrm>
            <a:off x="76320" y="2286000"/>
            <a:ext cx="9067680" cy="2814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JasmineUPC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28600"/>
            <a:ext cx="7619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JasmineUPC"/>
                <a:ea typeface="Angsana New"/>
              </a:rPr>
              <a:t>3. </a:t>
            </a:r>
            <a:r>
              <a:rPr b="1" lang="en-US" sz="3000" spc="-1" strike="noStrike">
                <a:solidFill>
                  <a:srgbClr val="ffffff"/>
                </a:solidFill>
                <a:latin typeface="JasmineUPC"/>
                <a:cs typeface="Angsana New"/>
              </a:rPr>
              <a:t>โครงการจัดทำฐานข้อมูลสารสนเทศห้องสมุด                                   ประกันคุณภาพการศึกษา และประชาสัมพันธ์หน่วยงาน</a:t>
            </a:r>
            <a:endParaRPr b="0" lang="en-US" sz="3000" spc="-1" strike="noStrike">
              <a:solidFill>
                <a:srgbClr val="000000"/>
              </a:solidFill>
              <a:latin typeface="JasmineUP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127" t="28124" r="7811" b="15627"/>
          <a:stretch/>
        </p:blipFill>
        <p:spPr>
          <a:xfrm>
            <a:off x="76320" y="1990800"/>
            <a:ext cx="899136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25:29Z</dcterms:created>
  <dc:creator>User</dc:creator>
  <dc:description/>
  <dc:language>en-US</dc:language>
  <cp:lastModifiedBy>User</cp:lastModifiedBy>
  <cp:lastPrinted>2004-08-16T21:39:55Z</cp:lastPrinted>
  <dcterms:modified xsi:type="dcterms:W3CDTF">2004-08-17T17:24:43Z</dcterms:modified>
  <cp:revision>38</cp:revision>
  <dc:subject/>
  <dc:title>ไม่มีชื่อเรื่องภาพนิ่ง</dc:title>
</cp:coreProperties>
</file>